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7D86-F19D-4529-B3F6-593A3179E0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ch Warfare in WW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r 9 His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 in WW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9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y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y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a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rench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nt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cation tren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ort trench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Mans L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rbed wi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nch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tre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n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ed w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ch Warf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fensive attacks into No Mans L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ll fi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ing over the t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tre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emy goes for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nsive attacks into No Man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 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ing over the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my goes fo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ggested Tas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a picture of a trench see p. 24 of textboo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e a description how trench warfare work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a picture of a soldier and what he would have had to take into batt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ources: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book p.22-3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ch warfare pac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picture of a trench see p. 24 of text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description how trench warfare work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picture of a soldier and what he would have had to take into batt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book p.22-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 pa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9619-D02F-4F03-9358-9899E2B0C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9287-4169-444E-B03A-88D82BDE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5F28-6EE1-4243-8AB1-F659A73F7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7DAE-4063-42A4-9C50-9119107AE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AB8E-18BF-44AF-BDD4-845D6C46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DEE1-6386-4230-BF19-BB0ED58D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D8B6-8CCD-4C3C-9D65-6952DC33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77EC-B020-4536-AD7C-FC3A1608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901F-7B33-4899-8618-5941A799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5350-9A8E-485C-9C9A-8CC213C6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7016-54CC-4D04-925C-9EB0464B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0027-081F-4121-B14B-D2050EDC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2413-B68A-41E0-9593-0EA34BFC958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Trench Warfare in WWI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Year 9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Myth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51" name="Picture 4" descr="Worcester regiment off to war"/>
          <p:cNvPicPr/>
          <p:nvPr/>
        </p:nvPicPr>
        <p:blipFill>
          <a:blip r:embed="rId1"/>
          <a:stretch/>
        </p:blipFill>
        <p:spPr>
          <a:xfrm>
            <a:off x="324000" y="1341360"/>
            <a:ext cx="83516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Reality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53" name="Picture 4" descr="Trenches"/>
          <p:cNvPicPr/>
          <p:nvPr/>
        </p:nvPicPr>
        <p:blipFill>
          <a:blip r:embed="rId1"/>
          <a:stretch/>
        </p:blipFill>
        <p:spPr>
          <a:xfrm>
            <a:off x="1187280" y="1197000"/>
            <a:ext cx="6840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The Trench System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Front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Communication tre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Support tren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No Mans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Barbed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" descr="Trench system"/>
          <p:cNvPicPr/>
          <p:nvPr/>
        </p:nvPicPr>
        <p:blipFill>
          <a:blip r:embed="rId1"/>
          <a:stretch/>
        </p:blipFill>
        <p:spPr>
          <a:xfrm>
            <a:off x="4716360" y="1268280"/>
            <a:ext cx="4000680" cy="244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Trenches"/>
          <p:cNvPicPr/>
          <p:nvPr/>
        </p:nvPicPr>
        <p:blipFill>
          <a:blip r:embed="rId2"/>
          <a:stretch/>
        </p:blipFill>
        <p:spPr>
          <a:xfrm>
            <a:off x="4716360" y="3860640"/>
            <a:ext cx="407196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Trench Warfar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Offensive attacks into No Mans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Shell f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Going over the t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Retr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he enemy goes fo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Going over the top"/>
          <p:cNvPicPr/>
          <p:nvPr/>
        </p:nvPicPr>
        <p:blipFill>
          <a:blip r:embed="rId1"/>
          <a:stretch/>
        </p:blipFill>
        <p:spPr>
          <a:xfrm>
            <a:off x="4716360" y="1557360"/>
            <a:ext cx="4103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Suggested Task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Draw a picture of a trench see p. 24 of textboo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Write a description how trench warfare work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Draw a picture of a soldier and what he would have had to take into batt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Resources: 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extbook p.22-3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rench warfare pa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3T11:06:16Z</dcterms:created>
  <dc:creator>Carol</dc:creator>
  <dc:description>Trench Warfare in WWI</dc:description>
  <cp:keywords>Trench Warfare in WWI</cp:keywords>
  <dc:language>en-US</dc:language>
  <cp:lastModifiedBy>LEGION</cp:lastModifiedBy>
  <dcterms:modified xsi:type="dcterms:W3CDTF">2017-07-03T09:58:03Z</dcterms:modified>
  <cp:revision>8</cp:revision>
  <dc:subject>Trench Warfare in WWI</dc:subject>
  <dc:title>Trench Warfare in WWI</dc:title>
</cp:coreProperties>
</file>